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1705-67DB-4907-A629-B50EE1DF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F613-8086-4836-ACA2-6D0182B1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5F91D-2C1D-4ADC-8953-6C2318A8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5616E-9E3E-4916-9AE6-894262F8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47C20-55A8-4308-8AB8-9AFEBDCD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74CBE-2629-4C54-B215-EF038EFA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6E49E-C98E-4B42-ABBB-27E467A2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343A8-8A8A-4B88-BAF1-87A4AE7C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8CBCC-0E0F-4110-AB45-CB3AF00E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B3735-4C72-4969-8628-03CFB991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D0737-EDA4-47C6-874C-D40DABF2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CC23A-D6CA-4941-AF5B-F9079E66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636D-04F7-4D8C-9D2F-110BDD80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DDE18-1F00-4C87-BE1E-66697947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94D18-AD21-458A-85AF-6FA6B28D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E44C1-317D-4CBC-9F9E-B0CC7F5B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9232E-F18D-4D0F-9406-A3C8797E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94D01-0EA6-48E9-B94D-DBA0728E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5A08A-259A-4664-8004-BABC59D2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0C7FD-8218-4E42-BC38-77294EAB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9926A-B986-413B-85D4-11A74602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50CEB-7CD7-4B58-B307-7316047B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6DD93-2EB6-486B-963C-EB97748D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42E3-628D-4805-A147-A335936C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AC4C5-F8B2-45CE-8199-AE71A236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F79D9-124A-44A8-B91D-0A294FA5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D92F4-911E-4C64-B965-DF5D569B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0E103-8F15-43F0-8563-5F17B039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EE5D1-F687-48B9-BDE3-DF08A8B6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DC416-631C-4201-AF0D-9B1B2C3E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B36D5-BD18-488E-954B-59109818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8CE82-DA7D-42FC-8852-20A53BA6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526BC-2455-4B01-8007-4A68885F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6D94A-6C31-4077-87DB-37D36DA4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42E1-6B3D-42C1-9261-DF0FF3CA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4776B-F192-4D36-B9DB-1342CE21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18BFA-9A2D-4CE3-8EBA-66EFAA72A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AD193-F037-4956-97CC-340E07D1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94501-8223-413D-8048-D1DF8556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AAFFD-AF01-4BB7-8316-82C91E4B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0815D-33F2-4C3C-A9E0-FEED8093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DFF08-D637-4980-9011-B24703C8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13789-2CF9-4263-B6FC-A79BD642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9C660-0611-42C6-BA4E-2663671A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A592B-1008-49F4-9FBD-82487318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6318-67E9-4257-BCA6-95947EDF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2BF1F-049F-40CD-858C-802DD120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9D2FCB-EC12-4182-A0E3-827D52F7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55C5E-A424-4A19-8545-C3FA6F4D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11D42-9621-4CE6-86AF-FA4C4BEE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A769F-706E-46C0-A44A-EED8FFF3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FFE6-B307-44E7-AB77-3C5BEC64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DE0F-949C-4D13-9773-E4BADCAB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ABB3-4BE1-4270-81D9-360CCECA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299F-EE13-41AE-93D8-8988C3DC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8FAE-C39E-4EBC-BAB9-15EF506E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898E-7FB3-4627-98BD-FF158093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97F6-86F0-4031-B423-50B7EDCB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4F78-862D-4720-B6B0-56100B99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2F33-5BE3-40B7-90D6-C4F63138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4AE0-95F5-4573-8FE9-BD678907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B5B7-09CE-4761-A923-33653D39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B875D-12E5-4AF8-8012-08410ED0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55819-B971-4AEF-B2FE-06E18E58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47220-5ECC-4007-9966-AD5F6602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66EC2-F2AE-430D-A5E8-05F5F2C5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9EADA-800B-4969-993F-44A5964C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ABB7-8C6D-4AFD-B8BB-39AC50FA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A8DBE-E8FF-4CAB-A416-82073150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C0F07-C27B-4A8E-A711-77E322B4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ED0D8-8446-4F36-9078-087F87B5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B9E19-2C5E-4317-B02A-14E95C24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42BAB-DD72-4AB6-8BB2-E261B7F1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A1015-BD3A-46C4-9C18-0AA148BD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69042-60FF-4389-8AB2-23459BD2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6EEB2-CF0A-45E4-9E56-7B320A4D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CF7EE-D2CF-4E47-92F3-566D3B33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09430-3FDD-42E3-82A7-48EEAD8C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E960-C46E-4593-95D0-EDA27AF7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EFB0B-9F92-4DA6-B363-DF862614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AB560-9989-4AB9-BC4B-2B6DE245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5A927-E2E7-4C79-A201-E7B5B21F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9825B-E0D6-4EFD-AF1D-6B20A19D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B08A6-4E1E-4E09-9B05-C2719586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A24B5-2D93-4C14-9072-46BDF771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5BE95-D00E-420F-BB43-8AB6A0CA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6E418-5F04-4680-8EA0-D6F8D96D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69783-8BFC-4BEF-AF8B-F4BEB899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3D050-342D-402B-9B9F-2E2F9123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64E3-1988-4F61-A289-1E8BB9B9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349E8-2BF0-4D3D-A4A6-6696CD1B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DA626-181E-4347-BFF8-ED7F7BBA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514B7-0871-4F16-9E8E-BDA8DE0C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BF069-6CF7-4D82-A72E-D390BE9A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7AFE1-5544-44D4-B5E0-DAD45C47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1C428-BA89-487E-9F26-AAA44746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C4A76-CDC9-4924-99DD-5173A7EA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E11C9-521D-4B4A-BB61-9ABEF7A4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35EC3-DF23-419B-8FB6-572FD6C6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CFB95-17D4-4BD7-8FE3-71EB5E34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618F-E760-4465-9661-C5C59A21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55AB4-F39A-4DA1-8C36-8EB3B975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4AAC4-009C-4DB7-86A2-EF894F6A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D2B76-9770-4820-ABC6-0087C974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DBFCF-76EC-4D22-97BA-DF2888D4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BA671-68AD-46E0-8CB2-F905837D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9942B-2993-4B80-A252-A4EEB8A9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E27A8-D4D5-47AF-B276-BF241575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585EE-0DDF-44F6-AC09-36C3FCB9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AAA20-7005-4632-A4F2-E7631A8F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9C92D-0B67-4B83-8D67-134CE173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FF10-FE54-4FE7-BFF3-08AE7CD6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53E5E-C712-4D2D-8A5C-1E799742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E6CA5-9D89-4666-B66D-4817488A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5E11A-4A23-4B3A-9211-11B89D4E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7B5EF-8AB3-4B52-AD89-45CDDCD3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7320E-3ED8-4693-B484-1AC696BE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5FF35-C14E-44AE-B6EF-5C950ABA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A11F2-9FF2-42A6-88DD-77FDECCF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E64B1-553B-4BF9-AA81-DCDE52B6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FA163-9AFC-4412-AE94-D1523C41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D7B92-D1B5-4F06-BA76-8F020771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BE0F-052C-488E-A2B1-70E058EF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F39F2-EBF4-4131-8A4D-090BDC72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D1D8C-E4F2-462D-92A0-F010E8CB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DF5E7-32EF-4520-A4EF-C02C64FF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96EF5-0D15-407A-BFE2-CBE69C6E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A92EF-3B47-4A48-8AFA-7AAC89B9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6EBA3-29E5-4900-A534-F842FBDD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DBFA0-B31D-4881-961F-A4E2185C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83555-D888-4B70-B386-04A760C6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7B48E-3615-4E95-8BB1-CC1DF10C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C2E0D-E8DD-473D-B445-59C31884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FE42-6213-4632-B082-02B14D04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D41B3-E218-4455-8E50-9BAF610F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579AC-D96E-445C-BEF5-24C168CD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A21F4-FC26-4FF4-B24E-15497EC9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C5BA1-220A-4DD1-A421-EFAB2478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92BBD-5183-4D5E-82B3-47A18D66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8F64F-1DCA-47BF-8BE7-C45DB008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27DF1-20AE-4600-A293-C3FBC1CE4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2DEB9-E0DB-4C9F-B06D-4F4D37AA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A4677-5BD4-4D8B-ABF8-7C07EBE7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888A5-5001-4758-8000-7AAC1309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A958-6039-421E-9AED-1726854FF7E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9269-FA9D-4F21-880C-0C6F2E1C938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58DA-2113-4A30-B62C-10287688766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D1AE-6D49-48B9-9790-8930878071D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CE2D-C431-4721-A194-7D316ED9D9F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E6A3-4C4B-4C59-9768-2CAF5C4636F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4273-08F4-48A4-83EE-491CA677746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F382-BB15-493E-A96C-ADD9F6E1A9A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9015-3155-4C4D-A664-BA3C18AE304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15C2-AEFC-47B2-9C8C-530902FABF6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7AD1-42D1-4FCF-B084-C4C9B35B3EB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D7FE-DD19-4FB5-A83F-6FC5F0043DD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04 Nič sa, dieťa, nebo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Nie, nezanech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e, nezanechá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ľúbil že bude so mn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kdy ma nezanechá. :||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č sa, dieťa, neb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 znie Pánov hl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ieti mi na cest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Slova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lieva nádej novú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priek noci tm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uistenie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kdy ťa nezanech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Nie, nezanech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e, nezanechá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ľúbil že bude so mn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kdy ma nezanechá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ístie opad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vety spáli mráz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mivý je prelud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rnych sveta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ne však v svojej lásk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sľub dal môj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jeho Slova znie mi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Nikdy ťa nezanech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Nie, nezanech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e, nezanechá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ľúbil že bude so mn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kdy ma nezanechá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priateľa šípy hľadajú si cie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strachuj sa, ver le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ší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žiadnych skúšok tiesn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zostávam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mojom srdci znie vždy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Nikdy ťa nezanech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4:18:28Z</dcterms:modified>
  <cp:revision>23</cp:revision>
  <dc:subject/>
  <dc:title>Je veľký náš Pán, on slávy je Kráľ Nech do všetkých strán  spev vrúcnych znie chvál.</dc:title>
</cp:coreProperties>
</file>